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1800"/>
            <a:ext cx="4797360" cy="35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F37D0-DCFD-459B-B095-D63A6C30C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rcolemma specialized to propagate de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plasmic reticulum serves as a giant Ca+ resevo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ic filamets exhibit specilized arrangement designed to produce contractile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on is an ATP-dependant process –therefore Lots of mito required for insta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muscle (white –red-intermed) have differences in their contractil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 or flagellar movement are too slow, it would take all day to get to the front door of your a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rom the standpoin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cellular structure designed for the development of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ell types ( skeletal, cardiac smooth)  and (red, white, intermed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ing membrane potential  of a muscle cell is  approx  -90 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axons arise from ventral horn cells and terminate in your big t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quite long 4 ft  (or 1 1/2ft  an a half in my c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e tissue provides a space for the entr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hich initiate and control the contractil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 which supply the fuel for the contractile machin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:    External Vs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ttach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 single cells &amp; groups - mysial coverings ;     Bone – myotendonous j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gnit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 scratching an itch vs smashing your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 muscle cells-  all fibers need to get the joke at the sa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muscle and nervous system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finger to nose (no drinking) requires cerebellar 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neration:    skeletal &amp; smooth  pretty good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--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ars on the slides mean?  -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ells are long cylindrical cells-  length can vary in specific muscle - length up to 30cm (1 foot)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muscle cell are collections of protein strands = myofr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ribrils are composed of individual myo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Hundrends to thousands of myofribrils/ cell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thousands of myofilaments/myofrib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ilaments – 2 major proteins   actin &amp; myosin in precise alignment = st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619-1625-45AB-B04C-C03AE153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E64-B9E6-4E38-BA4E-99726371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9B6-0513-400B-BDF5-9C7BCE09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CD0-B33B-4BC3-9A04-42218268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700-CF69-4B52-B144-BBDD3795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6ED-2C6F-488E-8054-369C3CD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EFC-AEB9-4004-902C-06A307D4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E30-57A1-4A9E-B4BF-236505B6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14C-BC22-4506-A63E-4A381FE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36B-75F5-4D7D-A6DC-25BD3D8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E0D-9BCB-4231-B04F-7428874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537-4091-4E1C-9BB0-AC9F14E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F9B-0F8C-4BBD-BF14-B604DDFFC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41920" y="2560680"/>
            <a:ext cx="343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CLE  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52280" y="152280"/>
            <a:ext cx="8915400" cy="6492960"/>
            <a:chOff x="152280" y="152280"/>
            <a:chExt cx="8915400" cy="6492960"/>
          </a:xfrm>
        </p:grpSpPr>
        <p:sp>
          <p:nvSpPr>
            <p:cNvPr id="67" name=""/>
            <p:cNvSpPr/>
            <p:nvPr/>
          </p:nvSpPr>
          <p:spPr>
            <a:xfrm>
              <a:off x="6858000" y="8380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USIFO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BRANCHED FIB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8380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CYLINDR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28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SHA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5749920"/>
              <a:ext cx="220968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5749920"/>
              <a:ext cx="213372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28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MITOT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DI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4780080"/>
              <a:ext cx="220968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MITOSI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4780080"/>
              <a:ext cx="213372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SATELLITE CELL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8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REGEN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809880"/>
              <a:ext cx="220968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LOW, FORCEFU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HYTHMIC,  SPONTANE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38280" y="3809880"/>
              <a:ext cx="213372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LL OR NONE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ontrol of CON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0" y="3027240"/>
              <a:ext cx="220968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G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CALATED DISK , Gap J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3027240"/>
              <a:ext cx="213372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2133720"/>
              <a:ext cx="220968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2133720"/>
              <a:ext cx="213372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MULTIP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PERIPHE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NUCLEI /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(LOCATIO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0" y="1523880"/>
              <a:ext cx="22096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1523880"/>
              <a:ext cx="213372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28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SARCOME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1522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MOO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CARDI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522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KELE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28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EA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" y="15228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280" y="838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21337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280" y="302724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3809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280" y="4780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57499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280" y="664524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676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1523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15228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receives its innervation from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ic nervous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uromuscular innervation of smooth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differs from skeletal muscle in two respec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ic axons innervate many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cells by synapsing in 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PASSANT” fash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urotransmitters responsib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in smooth muscle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tylcho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para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epinephrine =    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04920"/>
            <a:ext cx="8169120" cy="6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AND REGENERATION OF MUSCLE T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LETAL MUSCLE REGEN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letal muscle grows by enlargem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muscle fibers (hypertrophy) rather th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ddition of new fibers (hyperpla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fiber hypertrophy appears to be d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ily to the addition of new myofibri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letal muscle cells have lost the capacity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tic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d muscle cells must be replenished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pulation of stem cells called “satellite cells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at the periphery of many muscle ce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enclosed in the same basement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17680" y="522360"/>
            <a:ext cx="8321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 RE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, like skeletal mus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s to increased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compensatory hypertroph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rounding fibers (left ventric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roph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 cells lack the capa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itotic division, but unlike skelet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, lacks satellite cells…it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hibits little or no capacit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erneration after inj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304920"/>
            <a:ext cx="832176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responds to increa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s or damage by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compensatory hypertr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hyperplasia (addition of new fiber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mooth muscle cells are derived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tic division of existing smoo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tion of stem cells (e.g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cytes from blood vessel wa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439560"/>
            <a:ext cx="89154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scle Nomencla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dividual Muscle Cells (my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fiber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0 - 100um diameter - several millimeter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, multinucleated cells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can be as long as 30 cm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ple nuclei are located at the periphery of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ytopl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cytoplasmic organelles hav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come highly specialized in these cells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given different names, usually preceded by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prefix “Myo” or  “Sarco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36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8839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LETAL MUSCLE CELL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smalem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olemma (specialized invagination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 - tub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arcopl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arcoplasmic reticulum (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- highly specializ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toplasmic fila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yo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Bundles (1-3um diameter) =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dividual = thin/thick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arc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ually encircle the myfibrils near the I-b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686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CLE FIBER TYP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 fibers contain the protein My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hemoglobin in blood in that 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s as an oxygen donor for the metabol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ry of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 fibers can be divided into 3 typ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their Myoglobin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– WHITE - INTERMED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06280"/>
            <a:ext cx="87184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WH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Type I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Type II B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Type II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yoglob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myoglob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ycoge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glycoge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glyc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mitochondri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lo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ery Fa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erately F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 acting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apidly fatigue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xidati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yc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erobic ATP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aerobic ATP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erobic &amp; anaerob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824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28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s in Striated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light microscope muscle cells c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longitudinal section exhibi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 pattern or banding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triation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flects the ultrastructu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 of the myofibrils which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ed in precise and regular align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the sarc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5960" y="2516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52520"/>
            <a:ext cx="86868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-Ban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k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-Ban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-lin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k line which bisects the I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ries of alternating light and dark bands is the light microscopic appearan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ic contractile un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muscle cell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comere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152280"/>
            <a:ext cx="883908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RCOM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ed of the region from one Z lin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 2.5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um = A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0um = I-b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plasm of an individual muscle ce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filled with long cylindrical bundle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ofibri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(1-2um in diameter)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gned parallel to the long axis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14280"/>
            <a:ext cx="8610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myofibril exhibits the same banding pattern as the muscle cell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ecise lateral alignment of myofibrils within the muscle cells that gives the appearance that the striations run across the entire width of a ce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examine a single myofibril at the EM level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to distinguish two additional bands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om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-Zon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 staining region in the cent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-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-Lin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k staining line in the center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360" y="314280"/>
            <a:ext cx="86263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S OF THE SARCOME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AND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on of overlapping thick and th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BAND =  Thin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-BAND =  Thick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-Line =  Thick filaments and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-Line = alternately spaced thin filaments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oining sarcomeres anchor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882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60440"/>
            <a:ext cx="8686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SCLE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cellular organisms have develope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ytoplasmic specializations responsible for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tility (cilia and flagell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lticellular organisms have adapted a clas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mesodermally-derived cells specialized for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actile 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310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839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Z-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Major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-Line Prote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Anchoring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pha Actin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inding protein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-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aps the (+) ends of the th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596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"/>
            <a:ext cx="861048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N FILAMEN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d associated prote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larized having a plus + (attached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inus (free)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d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opomyos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ulates availabil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binding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opon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+ regulation of contr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bu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chored at Z-line, runs the leng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ctin fila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opomodul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p protein for (-) end of act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480" y="0"/>
            <a:ext cx="887724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N FILAMENTS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. 1.0um long, 6-7 nm di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amentou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-actin) formed from two stran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globular actin (G-actin) arranged in a double heli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s of the protein tropomyosin are associ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actin double helix in the groove betwee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F - actin str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location of the myosin binding site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 mole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rest the structural conformation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myosin strands is such that tropomyos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s these  myosin binding sites on the act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a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8824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7680" y="76320"/>
            <a:ext cx="83977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lobular protei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ropon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taches to the tropomysin strands at regular interv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opon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 subuni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n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ropomyocin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s to the tropomyos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Tn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nhibi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ibits (regulat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ing of )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osin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 on act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T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calciu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ing site for calci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the initi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2280" y="382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456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52280"/>
            <a:ext cx="89154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CK FILAMEN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ssociated prote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:  major structural protein  (dim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line Prot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yomes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myosin bundles apar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overlap of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eatine kin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atalyzes the convers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   &gt;   A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prote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s myosin strands together in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ck  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in:   Anchors the tail regions of the myosin d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7680" y="423720"/>
            <a:ext cx="83977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OSIN (THICK) FILA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 1.5um long, 12-15nm diam - composed primarily of multiple strands of a myosin dimer held together by a structural protein term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-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myosin monomer is composed 3 reg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together take a “golf club” like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 shor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d reg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 short neck region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 long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il reg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light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2280" y="1540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0"/>
            <a:ext cx="838188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d/neck region of myosin contains 3 important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P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le region capable of conformational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yosin light chain proteins which wrap around the myosin n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essential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regulatory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il regions of the myosin are anchored to an extremely large the protein TITAN, which anchors to the Z-line at one end and the tail region of the thick filaments at the oth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9640" y="611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596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5480" y="2209680"/>
            <a:ext cx="854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THE PROTEIN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SACOM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24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52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17680" y="473040"/>
            <a:ext cx="86263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-tubules and the Sarcoplasmic Reticul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contraction predominently depends on 2 physiological ev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olarization of the muscl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lease of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ons from intracell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s within the muscle cell sarcoplasm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cells have evolved specialization of both intracellular and plasma membranes to assist in these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8240" y="77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423720"/>
            <a:ext cx="8321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coplasmic Reticulu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extensive within a singl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large bulbous terminal cisternae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terminal ends near the junc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and I b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R completely surroun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yofibr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 as a major reservoir for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10480" y="7621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5720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scle tissue is one of the 4 basic tissue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general structure of muscle is a striking example of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“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M FOLLOWS FUNCTION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85345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-tubu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ffect a more uniform and rapid distribution of membrane depolarization the sarcolemma has evolved a system of invaginating tubule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-tubu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invaginations of the muscle cell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tubules invaginate at the A / I junction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round this region at each myofib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it possible for membrane depolarization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instantaneously distributed to all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tubules are flanked by a pair of terminal cisternae of the sarcoplasmic reticulum and the three structure are collectively term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triad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5964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6127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400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41080" y="228600"/>
            <a:ext cx="838116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Filament “Theory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contraction of a muscle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ize of the A-band is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-band and H-zone decreas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ractile mechanism proposed to ac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s is called the “sliding filament theory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muscle contrac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457200"/>
            <a:ext cx="86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del proposes that during contracti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ck and thin filaments of a sarcomere slide past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causing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ning of the I-band - due to increased overl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ick and thin filaments (reducing the H z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liding motion is due to the binding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head to the actin filaments resulting i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rmational change in the myos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sting muscle, myosin and actin filam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interact because the binding sites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head on the actin filaments are block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oponin-tropomyosin complex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36400"/>
            <a:ext cx="83214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on of a single muscle cell is an all-or- none  event, but contraction typically occurs in a smooth precise fash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due to the unique 3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al arrangemen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ofila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digitation of thin and thi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aments is not 1: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77840"/>
            <a:ext cx="8321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nsverse EM view of the sarcomere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actin filament is associ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3 adjacent myosin fila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myosin filament contacts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acent actin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43920" y="2514600"/>
            <a:ext cx="3605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CLE   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76560" y="142920"/>
            <a:ext cx="971784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major steps in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 of a nerve impulse (action potentia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ng an afferent nerve fiber terminating o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transmission of the afferent impul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uscle cell depolar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Release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masking of myosin binding sites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ing of myosin to the actin filament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“power strok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423720"/>
            <a:ext cx="88394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on of a nerve impul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ction potential) along a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ferent nerve fiber terminating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a muscle cell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itial signal for muscle contra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ses from a nerve impulse gener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ng the myelinated axons of  somat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or neurons in the central nervous syst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neurons are located in the ventral ho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spinal c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59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rminal ends of their motor ax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in a specialized contact on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termed a “neuromuscular/myone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ctio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iven motor axon can branch at 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 to contact many individu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tor axon and all of the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that it contacts are termed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or unit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umber of cells in the motor unit determi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cision of the muscle mov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228600"/>
            <a:ext cx="876312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yoneural junction and the mus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ap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int of contact forms a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-cell j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mbranes of the motor axon fan ou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specialized contact = “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plat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tor endplate and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 become closely apposed i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llow invagination of the sarcolemma -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“primary synaptic cleft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10480" y="20574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0440"/>
            <a:ext cx="87627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sed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two basic element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scle cells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fib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velop contractile force through shortening of the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ve Tiss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vides a framework against which the contractile forces of muscle cells can be exe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rrounds and support aggregates of muscle fibers providing nutrients, oxygen and nerve innerv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scle tissue is provided with a rich complement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Blood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vessels &amp;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53352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dges of the synaptic cleft are mark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smaller infoldings of the sarcolem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condary synaptic clefts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unctional fol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cre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otal surface area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/muscle conta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rminal ends of the motor ax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 numerous intracellular vesicl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urotransmit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colemmal membrane adjacent to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cleft contains specialized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10480" y="3051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28600"/>
            <a:ext cx="89154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aptic transmission / muscl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of acetylcholine into the synaptic c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sicles in the motor axon terminal results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Activation of acetylcholine receptors o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Opening of ligand-gated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 resulting  in initial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Opening of voltage-gated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 resulting in wide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of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27960" y="1981080"/>
            <a:ext cx="7187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xcitation / Contract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upl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2760" y="209520"/>
            <a:ext cx="862632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.  Release of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the 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lassic St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mulates the formation of  inositol tri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sphate (I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ercolates in the sarcoplasm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on of the SR and binds  to an I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e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nel in the term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ternae of the  SR membr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ut see also Dihydropyridine mod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released through these channel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tracellular levels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6456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764560" y="3660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12640"/>
            <a:ext cx="80168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Really Happens 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ates a dihydropyridine recep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HPR)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HPR is mechanically coup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yanodine receptors  which are calc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nels inserted into the SR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released through these channe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intracellular levels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1828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52280"/>
            <a:ext cx="86868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masking of myosin binding si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creased intracellular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nc subunit of the troponin complex o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ing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he troponin/tropomoys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results in a lateral rotation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pomyosin strand, driving it deeper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oove between the two actin hel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otation of the tropomycin uncover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osin binding site on the actin fila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645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868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ing of myosin to the ac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ament and the “power strok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it’s binding site uncovered, myosin is n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to bind to it’s binding site on the act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 ADP + Pi are bound to the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 of the myosin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masking of the myosin binding site by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the myosin  to extend out and bin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in - this releases the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 is then released from the myosin head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neck flexes = the “power strok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5337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7160" y="254160"/>
            <a:ext cx="87012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exion of many myosin heads, ratch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in filament along the myosin (power stroke)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rcomere short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power stroke” is estimated at 11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mulative sequential power strok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myosin heads = full muscle c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ycles is repeated at a rate of 10-50 strokes/seco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the critical level of intracellular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int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TP is available as energy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280" y="22860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OR COMPLEX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power stroke, the myos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ains attached to the actin filament a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osin light chains are in their flex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nfiguration is known as the “rigor complex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or complex is maintained indefinitely unti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ATP binds to the head region of the 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ATP is thus 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37400" y="25938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7680" y="374760"/>
            <a:ext cx="85658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scle Relaxa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ofilament attachments releas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comere returns to its resting leng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cle relaxation is not a pass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from the standpoi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energe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50% of the ATP involved i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on / relaxation  cycle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ilized during relax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4604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0"/>
            <a:ext cx="906768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Muscl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. 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Exter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eletal (movement of your 206 bones &amp;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  cardiac = blood thru circulator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  smooth =movement thru tubular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food thru GI tract, Blood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.  Posture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- tonic control of axial muscle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against gravity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isometric contrac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.  Hea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generation of body heat, 85%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shivering=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scillating contraction/relax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17680" y="423720"/>
            <a:ext cx="8397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cle relaxation is a 2 step proces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e sarcoplasm 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the lateral cisternae of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chment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e Tnc subuni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ponin and the  de-rota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pomyosin out of the actin grove to again cover the myosin binding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4520" y="144792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228600"/>
            <a:ext cx="8686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REMOV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depolarization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, the SR acts 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”sink” and actively transports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s back into the SR lum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ia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ATPase driven ion pu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inside the SR lumen,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nds 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nding protein “Calsequestrin”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cess restores intracellular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ck to rest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3716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65040" y="141120"/>
            <a:ext cx="8550360" cy="66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tissue has a voracious appetite for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P has 3 major uses in muscl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s the myosin-actin “power strok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s the Ca++ ATPase ion at the Sarcoplasmic Reticul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relaxation 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processes require that muscle tissue be well adapted to rapidly regenerate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1880" y="51814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85760"/>
            <a:ext cx="891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RENT INNERVATION OF 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ed movement requires feed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about the current state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le machin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letal muscle is supplied by afferent nerve endings from the CNS which provide a mechanism for precisely monitoring the contractile state of musc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nvolves 3 classes of sensory e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Muscle spindles **  (muscle stre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Tendon org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uscle ten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Joint recept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joint posi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0440" y="66600"/>
            <a:ext cx="8524440" cy="63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CLE SPIND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length registering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fusiform structure 5mm x .2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ed of modified muscle fibers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fusal fibers - enclosed in 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 caps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ed longitudinally in muscle along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is of 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in number - most numerous in f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mus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596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131760"/>
            <a:ext cx="86263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scle spindle is composed of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 capsule surrounding 2-12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fibers = intrafusal fibers.  These cells have fewer myofibrils and are not designed for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types of intrafusal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1-2 mm long thick fibers w/ several nucle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ir midregion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ar ba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Several shorter, thinner fibers w/ nucle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gned  in rows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ar chain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2760" y="228600"/>
            <a:ext cx="83977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spindles are innervated by large sensory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afferent end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sensory fibers pene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psule and spiral arou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fusal fibers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nulospi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im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r fibers enter the capsu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e in a  spray-like arb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ar chain fibers = flower spr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econd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04920"/>
            <a:ext cx="8001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ensory ending respon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stretch by generating neu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ulse in the afferent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nerve impulses are convey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inal cord and CNS.  This provid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about the stat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of a given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217440"/>
            <a:ext cx="86263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 of repeated muscle cell contraction are reduc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an intracellular system of  intermediate fibers (desmin, vimentin, dystrophin) anchored to the muscle cell membran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ular Dystroph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disorder characterized by chro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essive muscle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-link recessive mutation in the gene coding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dystrophi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dystrophin results in  destabilization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membrane which ruptures during repe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ion profound muscle cell lo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th results from cumulative damage to cardia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espiratory muscle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15920"/>
            <a:ext cx="870264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immune disorder characteriz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ic progessive muscle weak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rom the production of antibod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blo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tylcholine receptors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musc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ACh receptors decline and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itation / contraction  is reduced. Muscle are weak and fatigue eas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ed with AChE bloc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457200"/>
            <a:ext cx="89154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al Requirements of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.  Generation of Tension: (shortening,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/3  of its lengt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.  Attachment: (connective tiss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.  Control of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 on/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 magnitud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recise controlled mov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commun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coordinated contraction of al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coordinated nerve muscle signal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4.  Repair: after damage or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cell differen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mitotic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42640" y="2560680"/>
            <a:ext cx="3774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USCLE   I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36960" y="2895480"/>
            <a:ext cx="4803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DIA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228600"/>
            <a:ext cx="8458200" cy="64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DIAC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internal arrangement of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ofilaments as skeletal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banding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biomechanical interac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actin and myosin filamen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e contraction of the cardia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2440" y="992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28600"/>
            <a:ext cx="861048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olunt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require an external trigger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ough cardiac muscl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ated it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olu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i.e. cardiac musc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contract without any neur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heartbeat is initiated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taneous depolarization of spec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cemaker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 atrial region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.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contraction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ul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the autonomic nervous system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gus (IX)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228600"/>
            <a:ext cx="86263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ly cardiac muscle is very similar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.  There are however a number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and functional diffe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 the LM Lev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appears as single branching fiber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to end by darkly staining jun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 contain only 1-2 centrally located p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ining nucle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lemma contains myofibrils that exhibit the same  organization and banding pattern as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4560" y="5335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64560" y="5945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0200" y="190440"/>
            <a:ext cx="928080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 differs from skeletal muscle in several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 Cardiac myocytes are s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connective tissue between cardiac myocy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mysium  No - Perimysium or Epimys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Myocytes directly connected by cell-cell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Cells not arranged in long parallel array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ing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 mono-nucleated (occasionally binucle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y 90% on oxidative phosphorylation f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is establishes and absolute requiremen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coronary blood fl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4120" y="254160"/>
            <a:ext cx="87804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 Cardiac Muscle relies heavily (90%)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ve phosphorylation for energy produ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plasm is filled with numer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 make up nearly 40 -45%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 volu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% in skeletal mus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 tend to be aggregated betwe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ofibrils and at the poles of 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3596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8760" y="423720"/>
            <a:ext cx="8614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JOR DIFFERENCES BETW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AC AND SKELETAL MUSCLE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Related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 different functions of the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 different environment in wh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muscles op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457200"/>
            <a:ext cx="86868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-CELL JUNCTIONS ( ICD &amp; G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TUBULES /SR: T-TUBULES LARG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RCOPLASMIC RETICULUM:  SR SPARSE &amp; DIFFU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Ca+ from extracellular source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RY REQUIRED FOR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CHANGE ACROSS SARCOLEM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CHONDRIAL OX-PHOS REQUIRED FOR AT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requirement for coronary blood flow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 ORIENTATION (TRANSMURAL ROTAT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S ACROSS HEART W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23440" y="473040"/>
            <a:ext cx="85608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IRECT CELL- CELL J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 cells - directly adheren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urrounding endomys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force transmitted to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yocyte individual cell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ed end to end by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ctions = Intercalated Dis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run across the end junction of two cardia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le cells and are divided into 2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ansverse - 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2280"/>
            <a:ext cx="88394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Organization &amp; Nomencl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scle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y muscle cell groups (fascicles)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rrounded by a sheath of dens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rregular CT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epimysiu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type I 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scicle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groups of muscle fibers (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surrounded by septa of CT from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pimysium 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perimysiu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typ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ber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 individual muscle cell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long cylindrical cel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surrounded by loose CT 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endomysiu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a basal lamina (type I,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V collag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uscle cell = Muscle fiber = Myo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5960" y="8398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64560" y="4116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4560" y="3735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7600" y="304920"/>
            <a:ext cx="8433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calated disks contain 3 types of jun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Fascia Adhere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Desm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Gap Jun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ongitudinal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er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mechanism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ular adhe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-cell communication via gap jun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aid in the spread of electrical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out the heart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64560" y="1220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08080"/>
            <a:ext cx="89154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verse Region of the Intercalated Dis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Finger-like projections of the cell membra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 filaments insert into th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 similar to a Z-line in skelet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proteins and actin insert into this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adjacent cells to forming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ering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ction   -Fascia Adherens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Regions between adjacent myofiblil bund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there are no thin filaments are join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smosomes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86104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Region of the Intercalated Dis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Form junctions between laterally adjacent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Gap junctions similar to those found in epitheli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Composed of pores called connex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form a functional electrical syna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small molecules (ions) and electrical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ly pass through gap 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 Gap junctions aid in the spread of th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out the heart muscle, by quickly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oothly transmitting the cardiac action potent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out the heart w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8824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21640" y="522360"/>
            <a:ext cx="866448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DIAD STRUCTURE OF T-TUBULES AND 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 - voluntary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-tubules are of moderate size and sur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yofibril bundles at the region of the A-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: transmission of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absolutely sec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-tubules are of much larger diameter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round the myofibrils at the Z-line ra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 the A-I 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8240" y="1297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868680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RSE SARCOPLASMIC RE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plasmic reticulum =very extens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ilated at is terminal extent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cisternae = large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plasmic Reticulum are tubular b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te sparse, and lack the large term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ternae seen in skeletal musc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cut in crossection usually onl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T-tubule and SR profile are observed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DI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7680" y="522360"/>
            <a:ext cx="84740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ALCIUM-INDUCED CALCIUM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ion potential of skeletal muscle: 2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flux   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fflux   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of the sarcoplasm trigge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3 release (DHP activation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+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from the SR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itiates contra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duration of the action potential is 4.0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5720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200160"/>
            <a:ext cx="86868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ion potential of Cardiac Muscle h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flux 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flux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eau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fflux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uration of the action potential is 200 milli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the plateau phase of the depolarization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racell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ers the sarcoplasm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tage-gated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ellular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ry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ivates 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ensi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nels on the SR membra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of intracellular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SR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ion of the contraction cy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964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228600"/>
            <a:ext cx="86263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on of Cardiac Muscle is thus trigger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 A calcium-induced - calcium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um entry is absolutely required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rce of contraction is directly {nearly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ly} related to the amount of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s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 ½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decrease the forc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contraction by 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ing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flu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the force of 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500040"/>
            <a:ext cx="86104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basis for the efficacy of an entire class of cardiovascular drugs used to treat hypertension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channel blockers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drugs block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try into the sarcoplasm by blocking the voltage-gate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nnels on the sarcolemmal membrane and the S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192240"/>
            <a:ext cx="86868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CALCIUM REM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al of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lls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mplished through a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TPase in the S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rane that transports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ck into the S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rse SR of Cardiac Muscle cannot accommo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 volume of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ters the myoc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contraction -  this must be return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ellular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Muscle has developed 3 mechanism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oval of intracellular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TPase on the SR membrane (small amou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tiport system i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TPase o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152280"/>
            <a:ext cx="89154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thin each individual muscle cell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yofibri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ructural units within the muscle cell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arcoplas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sed bundles of two types of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laments =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yofilaments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(hundreds / myofibril)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Myofibrils are held in precise alignment by intermediate filaments (desmin, vimentin, dystroph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yofila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“ thin (actin) and “thick” (myosin)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tein chains.  The precise alignment of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se filaments gives the appearance of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riations of the LM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5960" y="1373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88240" y="6478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88240" y="60976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208080"/>
            <a:ext cx="8534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 GENERATION IS FUEL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OCHONDRIAL OXIDA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uscle derives the ATP for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 of constant continu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fatigueable contraction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ative phosphoryl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qui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An adundant supply of mitochond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On demand, regulated blood oxyg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81080"/>
            <a:ext cx="84582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tabolism of the heart is characteriz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ighest rate of energy turnover of 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efficient (75%) extraction of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of any 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2 X   that of the kidn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8-10 X    that of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xygen delivery to the heart is cri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by the coronary blood flow - with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mall margin for hypoxia.  Ischemia (re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 flow) leads to decreased contractile force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s 10-20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3680" y="3811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17680" y="522360"/>
            <a:ext cx="83977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URAL ROTA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MY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rientation of skeletal muscle fi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unidirectional parallel to the ax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nsion in the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heart the axis of tension of cardiac muscle cells is variable, since the heart as an organ must “squeeze” to pump bl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595440"/>
            <a:ext cx="84582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diac Myocytes rotate their orientation throughout the wall of the myocar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outside to inside the orient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bers goes through a complete 18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ro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nders the heart wall structur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 and prevents rupture of the cardia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under the stress of con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5880" y="325440"/>
            <a:ext cx="65552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6720" y="700200"/>
            <a:ext cx="86036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Smooth muscle plays a critical role in regul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ariety of other organ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Re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Blood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pend on the actions of Smooth Mus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rangement of muscle cells with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is dependant on the typ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fun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heets vs. circular b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41360" y="422280"/>
            <a:ext cx="82454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is predominently arranged in sheets of muscle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Circ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Longitudi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nged around the hollow viscera of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these sheets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are organized into anastomo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d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52280"/>
            <a:ext cx="89154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, like cardiac muscle is innervated by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nomic nervous =  “involunt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le of maintaining the sustained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ous contraction importa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ting the tonus and lumenal diamet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ular structures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Blood Vessels -  Digestive &amp; Urinary 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Reproductiv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  cells of the vascular system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s of intercell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 tissue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n - Collagen - GAGs – Proteogly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28600"/>
            <a:ext cx="8169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OOTH MUSCLE CELL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cells are narrow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per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siform cells 200 um long 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um dia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cells has a single centrally loc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us  which is “pleated”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ed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no transverse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al Lam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rround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as a network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c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ticu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nectiv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5960" y="3963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28600"/>
            <a:ext cx="8915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TOPLASMIC ORGANEL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ned to the conical region arou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es of the elongated nucleus.  The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itochondr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olgi appar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cattered r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free ribos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7800"/>
            <a:ext cx="8626320" cy="62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 types of mus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letal - Cardiac -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cle Classification Sche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.  Structural organiz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Presence or absence of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. Control of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Voluntary or involunta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35960" y="1449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35960" y="45734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15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ytoplasm is occupied by 3 types of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 Filament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ctin, and tropomyosi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 tropon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ck Filaments: (myosin) similar to skeletal, excep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“regulatory light chains” in the neck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conformation =  folded with l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omyosin covering the 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Intermediate Filament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smin, viment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76040"/>
            <a:ext cx="86868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 plaques = dense bod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ed of a-actin are seen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plasm and inner surfa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colem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hin and intermediate filaments ins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the dense bodies forming a struc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ogous to the Z-line in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e bodies and associated filaments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tinuous interconnected skeleton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throughout the sarcopl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vides the scaffolding against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le force can be gener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35960" y="534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17680" y="620640"/>
            <a:ext cx="816912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R of smooth muscle is sparse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o terminal cisterna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lcium derived from extracellular poo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rcolemma contains numer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sicle-like structures -  caveolae - 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ginate into the cell and are though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  as analogues of T-tu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1830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17680" y="522360"/>
            <a:ext cx="74833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h less is known abou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chanisms of contraction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tracellular filament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ly arranged into sarcomer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atio  Actin / Myosin is grea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 in striated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in 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09480"/>
            <a:ext cx="777240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proposed that contraction occurs via a sliding filament mecha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n / myosin interaction similar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een in skelet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is transmitted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te fila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ffol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hed to the dense bod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390600"/>
            <a:ext cx="861084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itiation of the contraction in smooth muscl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s the cell from extracellula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requires the interaction of act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yosin filam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resumably us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ing filament mechan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in / Myosin interaction is dependent upon the presence phosphorylated myosin via a phosphorylating enzyme Myosin Light-Chain Kin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85840"/>
            <a:ext cx="868680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osin Light-Chain Kin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rcoplasm in an inactive form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ed with a Calci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ding protein Calmodulin for activ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5 major steps in smooth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76320"/>
            <a:ext cx="8839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IN SMOOTH MUSCLE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+ enters the muscle cell and complexes wit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++ binding protein calmodu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+/calmodulin complex binds to the myos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 chain kinase producing the active form of th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light chain kinase, phosphorylat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light chains at the myosin filament ne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unfolds allowing the interaction with myos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sites on the actin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sin interacts with actin to exert pull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te filaments attached to the dense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22860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OF SMOOTH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muscles exist in 2 different arrangements distinguished by their innervation 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ary (Visceral)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nged in circular or longitud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ets around hollow vis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w neuromuscular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ulses are transmitted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Gap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7680" y="15228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le of sustained slow contrac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regulate the lumenal diamet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ular structures and init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thmic peristaltic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 impulses “regulate” rather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initiate”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Multi-unit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ndles of smooth mus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ri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s Deferens) design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and precise con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muscle cell is individu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nerv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8:37:57Z</dcterms:created>
  <dc:creator>Information Systems</dc:creator>
  <dc:description/>
  <dc:language>en-US</dc:language>
  <cp:lastModifiedBy>Courtney Meyer</cp:lastModifiedBy>
  <dcterms:modified xsi:type="dcterms:W3CDTF">2007-09-10T22:07:57Z</dcterms:modified>
  <cp:revision>320</cp:revision>
  <dc:subject/>
  <dc:title>X</dc:title>
</cp:coreProperties>
</file>